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3064-09C2-484D-B62B-AA2C8938A2D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7395-F146-4520-8FA5-F2424F06B7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4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682880"/>
            <a:ext cx="5029200" cy="43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34760" y="6324480"/>
            <a:ext cx="17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lie: </a:t>
            </a:r>
            <a:fld id="{A059E705-6BAF-417E-84E4-7F19B940671D}" type="slidenum">
              <a:rPr b="0" lang="de-DE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63241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0720" y="624852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Events · Solutions · Pub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8001000" cy="2508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okalisierung von WinForms-Applikationen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oftware &amp; Consult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C++ MV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6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it dem Framework-SD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nötigen Tools sind im SDK enthal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ist (natürlich) etwas „Handarbeit“ angesa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Erzeugung von mehrsprachigen Resourcen ist nicht so einfach, wie mit Visual Studio .N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hrere Sprach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immer eine „default“-Sprache für die Resourc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hrere Sprachen mit „private satellite assemblies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atellite assemblies enthalten nur Resourc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ource-Assemblies können auch im GAC stehen, wenn sie für mehrere Applikationen genutz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t wohl seltener der Fal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it Visual Studio .NE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1536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ehr einfache Erstellung mehrsprachiger Applikatio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uch Größe, Position, usw. Von Controls können angepass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nutzung zusammen mit System.Windows.Forms-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atellite-Assemblies werden automatisch generie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euerung auch mit CurrentUICulture-Proper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it Visual Studio .NE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39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Tätigkeiten finden in der VS-IDE stat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istierende Applikationen müssen meistens leicht angepass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ALLE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Resourcen müssen zuerst in eine Resource-Date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S .NET hält die Resourcen in RESX-Dateien (in XML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hrsprachige Contro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ch User-Controls können internationalisier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leiches Verfahren, wie bei jeder Windows Forms Applik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im Hauptprogramm eingestellte Sprache wird an das Control „weitergereicht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1780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e Erstellung mehrsprachiger Applikationen ist einfacher als mit früheren VS- oder SDK-Versio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 Mechanismus ist für alle .NET-Sprachen gle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ele Klassen im .NET-Framework ermöglichen ein einfaches Arbeiten mit Resourc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agen und Antwor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4681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ternationalisierung mit Visual Studio .N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.NET: Die Internationalisierung einer Applikation ist NICHT mehr an die Programmiersprache gebun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Heutzutage sind mehrsprachige Applikationen ein Mus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icht nur die Übersetzung der Texte ist wichtig, sondern auch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ositionen und Größe der Control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echts-/Links-bündige Control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ortierung, Datum,.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860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orderung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nabhängig von Programmiersprach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eichte Anpassung von Text- und Bild-Resourc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genschaften von Controls müssen sprachabhängig sein (z.B.: Größ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eine neue „Kultur“ (Sprache) hinzukommt: Neu-Compilation NICHT erforder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faches Deployment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peicherplatz-schonend (RAM und Festplatt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856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her: Testen, aber wie??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61084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e testet man mehrsprachige Applikationen möglichst einfach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it Thread.CurrentThread.CurrentUICulture die gewünschte Sprache setz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ltilingual User Interface Version von Windows 2000/XP benutz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stallation neuer Sprachen ist sehr einf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 beiden Fällen wird nur ein Rechner benötig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 Kultu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382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ultur = Sprache[-Ort]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uts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-AT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utsch in Österre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-CH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utsch in der Schwe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glis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-US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glisch in den Verein. Staa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-AU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glisch in Australi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-CA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glisch in Canad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r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ranzösis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.NET-Kla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ourceManager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rlaubt den Zugriff auf die korrekte Sprach-Resource zur Laufzei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ein Resourcen-Name in der gewählten Sprache nicht vorkommt, dann wird die Standardsprache benutz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ourceWriter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chreibt Resourcen im Standardformat in eine Date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kann überschrieben werden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.NET-Kla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ourceReader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lesen und auflisten der Resourcen in einer Datei (Name-Wert-Paar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kann überschrieben werden)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ourceSet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e ResourceManager, aber alle Daten werden in den Speicher gela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ein „Fall-Back“-Mechanismu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.NET-Kla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ltureInfo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thält Informationen, die der Benutzer eingestellt h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prache, Land,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ormat für Datum, Zeit und Numm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ortie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gionInfo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thält Informationen über die Maßeinhei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2:10:30Z</dcterms:created>
  <dc:creator>DATACOM</dc:creator>
  <dc:description/>
  <dc:language>en-US</dc:language>
  <cp:lastModifiedBy>Bernd Marquardt</cp:lastModifiedBy>
  <dcterms:modified xsi:type="dcterms:W3CDTF">2006-03-21T14:52:02Z</dcterms:modified>
  <cp:revision>72</cp:revision>
  <dc:subject/>
  <dc:title>Neue Wege in der Telekommunikation</dc:title>
</cp:coreProperties>
</file>